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testdev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550400" cy="7164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7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7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7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19E96-D5AB-4EBF-8DD5-B2404232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3FFA8-CE48-4566-91B6-AAA710E3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ADBC9-8EF4-4B3C-89D3-A57AD8D2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A860C-1A03-4631-ABD4-B49CC729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E635E-1306-4115-8B0A-A26C16B1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37800" y="-14400"/>
            <a:ext cx="81183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C58B8-7648-4D5C-86E0-373417AB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E54F0-0A9C-40C3-BEB6-B1195DA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4B643-8A29-4B4D-BF64-C0862F79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4472A-98A5-4E6E-8A23-9BA7A9FB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F56AD-3FA6-4E11-9346-CF9D0C60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0470A-9876-4D9B-BA0C-A89646AD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7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7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7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DA196-9A18-474B-B6CB-3A0BFCA2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7800" y="-14400"/>
            <a:ext cx="81183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760" indent="-237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040" y="6526080"/>
            <a:ext cx="1990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1960" y="6526080"/>
            <a:ext cx="3025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第二页"/>
          <p:cNvPicPr/>
          <p:nvPr/>
        </p:nvPicPr>
        <p:blipFill>
          <a:blip r:embed="rId3"/>
          <a:stretch/>
        </p:blipFill>
        <p:spPr>
          <a:xfrm>
            <a:off x="0" y="0"/>
            <a:ext cx="9550440" cy="7162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760" indent="-237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716040" y="6526080"/>
            <a:ext cx="1990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261960" y="6526080"/>
            <a:ext cx="3025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843600" y="6526080"/>
            <a:ext cx="1990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A40A-9C65-42F8-9B53-F767FD6CE6E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testdev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7800" y="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：侯测室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9520" y="2060640"/>
            <a:ext cx="8448840" cy="3643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加普通话水平测试的考生应在规定测试日期时到考场报道（逾期不候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时间前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十五分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考务人员通知考生准备测试，考生到侯测室报道，考生交验准考证、身份证后抽签决定考试试室，领取测试试卷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三步：核对个人信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5240" y="1576440"/>
            <a:ext cx="7997760" cy="441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登录成功后，考试机屏幕上会显示考生个人信息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认真核对所显示信息是否与自己相符，核对无误后，单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确认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继续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对时若发现错误，可以点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返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重新登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核对个人信息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2"/>
          <p:cNvPicPr/>
          <p:nvPr/>
        </p:nvPicPr>
        <p:blipFill>
          <a:blip r:embed="rId2"/>
          <a:stretch/>
        </p:blipFill>
        <p:spPr>
          <a:xfrm>
            <a:off x="982800" y="1415880"/>
            <a:ext cx="76104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四步：试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5680" y="1762200"/>
            <a:ext cx="7932600" cy="441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试音页面后，考生会听到系统的提示语，提示语结束后，请以适中的音量和语速朗读文本框中的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个人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进行试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若试音失败，请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提高朗读音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重新进行试音（一次机会），如试音最后还是失败时，请马上离开考场，工作人员再安排考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考生试音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5"/>
          <p:cNvPicPr/>
          <p:nvPr/>
        </p:nvPicPr>
        <p:blipFill>
          <a:blip r:embed="rId2"/>
          <a:stretch/>
        </p:blipFill>
        <p:spPr>
          <a:xfrm>
            <a:off x="957240" y="1281240"/>
            <a:ext cx="761220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stdev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五步：测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03080" y="1576080"/>
            <a:ext cx="8102520" cy="500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开始时，每一题都会有语音提示，请在语音提示结束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听到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嘟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”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的一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再开始朗读试题内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时第一题、第二题试题要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横向朗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读试题时注意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漏行、错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每项试题后请立即点击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右下角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下一题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，防止录入太多空白音影响成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读过程中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说与试题内容无关的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有问题请举手示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注意事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8200" y="1530000"/>
            <a:ext cx="7889760" cy="499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考生正确戴上耳麦，并根据提示音进行试音；测试结束离开座位时，注意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摘下耳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试试音时，要以正常适中音量朗读试音文字，正式测试的时候朗读音量要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与试音时保持一致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再次提醒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1530000"/>
            <a:ext cx="8010720" cy="4600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试题为横向排列，考生朗读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注意横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漏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过程中，考生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说与测试无关的内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免影响测试成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读完每一题后，应及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点击下一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下一部分测试，以免录入太多的空白杂音影响测试成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第四题说话部分由人工评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请考生注意不要离题、不要背稿；说话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满三分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，即可停止答题，结束测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：备测室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1680" y="1770120"/>
            <a:ext cx="8142120" cy="4332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宋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领取试卷后，考生随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考务人员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进入备测室准备测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宋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考生在备测室准备试题内容，不得在备测室内大声喧哗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宋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得到考务人员上机测试的通知后，进入测试室进行测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：测试室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3120" y="1661760"/>
            <a:ext cx="8153640" cy="471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进入测试室后即可按照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考试机页面提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开始测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过程中除必要的操作外，考生不得随意设置和操作计算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过程中出现死机等异常现象，考生应报告管理人员进行处理，不要擅自处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结束后考生应摘下耳机，轻声离开测试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系统简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8280" y="1676160"/>
            <a:ext cx="7929720" cy="426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ff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国家普通话水平智能测试系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参加普通话测试考生的考试应用软件，在考试过程中，考生可以按照测试程序的提示，逐步完成考试内容及相关操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完整的操作流程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847800" y="4726080"/>
            <a:ext cx="1584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考生登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2168640" y="4726080"/>
            <a:ext cx="45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2562120" y="4699080"/>
            <a:ext cx="2125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核对考生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5067360" y="4686480"/>
            <a:ext cx="992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试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447880" y="4691160"/>
            <a:ext cx="117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6235560" y="4699080"/>
            <a:ext cx="939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675120" y="4673520"/>
            <a:ext cx="117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7434360" y="4699080"/>
            <a:ext cx="1579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提交试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4610160" y="4705200"/>
            <a:ext cx="45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步：佩戴耳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8280" y="1680840"/>
            <a:ext cx="8077320" cy="4094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生入座后，考试机屏幕上会提示佩戴耳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生戴上耳麦，将麦克风调节到离嘴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2-3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厘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距离，注意麦克风在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左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耳麦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头戴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后挂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考生需注意佩戴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戴好耳麦后，马上点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下一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佩戴耳麦提示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01带耳机"/>
          <p:cNvPicPr/>
          <p:nvPr/>
        </p:nvPicPr>
        <p:blipFill>
          <a:blip r:embed="rId2"/>
          <a:stretch/>
        </p:blipFill>
        <p:spPr>
          <a:xfrm>
            <a:off x="1973160" y="1719360"/>
            <a:ext cx="5241960" cy="40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后挂式耳麦佩戴图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侧面戴耳麦"/>
          <p:cNvPicPr/>
          <p:nvPr/>
        </p:nvPicPr>
        <p:blipFill>
          <a:blip r:embed="rId2"/>
          <a:stretch/>
        </p:blipFill>
        <p:spPr>
          <a:xfrm>
            <a:off x="871560" y="1838160"/>
            <a:ext cx="4734000" cy="426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正面带耳麦"/>
          <p:cNvPicPr/>
          <p:nvPr/>
        </p:nvPicPr>
        <p:blipFill>
          <a:blip r:embed="rId3"/>
          <a:stretch/>
        </p:blipFill>
        <p:spPr>
          <a:xfrm>
            <a:off x="4513320" y="1641600"/>
            <a:ext cx="4537080" cy="44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步：登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440" y="1760040"/>
            <a:ext cx="8021520" cy="4094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屏幕出现登陆界面后，考生填入自己的准考证号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准考证号的前几位系统会自动显示，考生只需填写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最后四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填写完成后，马上点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进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登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考生登录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1"/>
          <p:cNvPicPr/>
          <p:nvPr/>
        </p:nvPicPr>
        <p:blipFill>
          <a:blip r:embed="rId2"/>
          <a:stretch/>
        </p:blipFill>
        <p:spPr>
          <a:xfrm>
            <a:off x="914400" y="1557360"/>
            <a:ext cx="7542360" cy="48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56:04Z</dcterms:created>
  <dc:creator>徐景明</dc:creator>
  <dc:description/>
  <dc:language>en-US</dc:language>
  <cp:lastModifiedBy>曾楚清</cp:lastModifiedBy>
  <dcterms:modified xsi:type="dcterms:W3CDTF">2013-03-18T09:19:07Z</dcterms:modified>
  <cp:revision>1583</cp:revision>
  <dc:subject/>
  <dc:title>PowerPoint 演示文稿</dc:title>
</cp:coreProperties>
</file>